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FCD-2937-46FF-9AF3-356480FB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B14-0C00-49D7-923B-F68ECCDF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CFF-19CC-4E3B-B5EE-3D232FE6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917-F873-43FF-A897-D19D2574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DEDBF-FB7C-4F48-BBA0-54389351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AB217-6845-4752-B6B0-027EF977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40C41-63A4-439D-BADC-2AEC0F64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50579-3DF2-44BB-A886-38235117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AB284-32D4-49CD-9A08-F2FE4E55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BD522-5169-47A7-8CF9-406F5D0C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E8099-06EA-45F7-9DAF-B6C2E7AF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E15-06AF-486A-BB90-3280A56F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4DF33-4762-45FD-A027-A91FCA66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DDC09-3FE2-41EB-84A5-D8BF216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1FD91-DCD5-4202-B230-E220594A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54AA1-F356-4176-9983-4F38493E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15F1E-89A5-458C-A49D-8756B08F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0D32-9C86-4943-ABA8-207AFF5B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CC51-8CB2-4BA7-9BED-3E3A2A89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F991-DDC3-4749-87C9-8FFEE05F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DA7B-7D59-4BE9-A45E-C37AE891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9037-F26C-4D0C-90BD-8F42CA11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EFD-1FCF-4BA5-A2AA-AE8F4C27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4C30-6065-47E2-A4E5-AD58D2CA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C26A-E267-40A9-ACD1-F487C5CA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7A4A-2D3E-4173-A1CD-FB9B96B0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10DA-8A23-4FE2-8BEB-5144252E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9929-31D1-460C-A8EC-DBE1476C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143A-A6B9-408C-BA2E-FC837D99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BE060-CD9F-4D8D-BE57-31166CF3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CB665C-14EB-490A-8FA3-01245926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168C78-935C-4AAA-B679-5A34F1FF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70D37-7740-4D4F-8354-74BAD4DA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88D-F3CF-4C78-AB59-7ABB428B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981C4-9819-4BFC-ACE2-8E5EE154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3FF02-3974-48B2-8041-66675EF8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71DED-DB3B-44D9-AFE5-6D881409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C7B5F1-0765-4BEA-AA08-6FC079EB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625959-ED74-4292-9FB0-2F35EBE2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CC54B7-E4F6-41C2-AB4B-AD963510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9ECFA6-71E2-417E-A4AC-12C0BD37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ABEA65-1028-475C-A710-5C0BD78D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38C71-5EB5-4345-994B-D801AB39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317-B9B8-4FD1-8D03-7D5E386F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622-7D5F-4E2B-8575-C12C83C2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B32-111D-469F-9099-9B668414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479-6C95-400C-A381-DB787167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B12-0C94-458E-9B67-DC207A9A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D32D-CE9A-46A4-B716-4A69166FB86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335B-06CD-4292-B201-223282143D1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E28F-4BBD-45BE-8679-0026B8C3CAC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741E-A3BE-4A2D-8A75-5A83B3034A2F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414360" y="-133200"/>
            <a:ext cx="8315280" cy="24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1\Desktop\Сухомлинский 3.jpg"/>
          <p:cNvPicPr/>
          <p:nvPr/>
        </p:nvPicPr>
        <p:blipFill>
          <a:blip r:embed="rId2"/>
          <a:stretch/>
        </p:blipFill>
        <p:spPr>
          <a:xfrm>
            <a:off x="380880" y="2438280"/>
            <a:ext cx="3733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Женя умерла 28 декабря, в 12 часов 30 минут утра 1941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Бабушка умерла 25 января, в 3 часа дня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Лека умер 17 марта, в 6 часов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Дядя Вася умер 13 апреля, в 2 часа ночи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– 13 мая, в 7 часов 30 минут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Савичевы умерли. Умерли вс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Таня»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Содержимое 5" descr="0_3e22_41fdc774_XL.jpeg"/>
          <p:cNvPicPr/>
          <p:nvPr/>
        </p:nvPicPr>
        <p:blipFill>
          <a:blip r:embed="rId1"/>
          <a:stretch/>
        </p:blipFill>
        <p:spPr>
          <a:xfrm>
            <a:off x="685800" y="380880"/>
            <a:ext cx="579132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leningrad"/>
          <p:cNvPicPr/>
          <p:nvPr/>
        </p:nvPicPr>
        <p:blipFill>
          <a:blip r:embed="rId1"/>
          <a:stretch/>
        </p:blipFill>
        <p:spPr>
          <a:xfrm>
            <a:off x="0" y="0"/>
            <a:ext cx="3502080" cy="487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9895417b14c"/>
          <p:cNvPicPr/>
          <p:nvPr/>
        </p:nvPicPr>
        <p:blipFill>
          <a:blip r:embed="rId2"/>
          <a:stretch/>
        </p:blipFill>
        <p:spPr>
          <a:xfrm>
            <a:off x="2819520" y="3195720"/>
            <a:ext cx="5562360" cy="366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73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пуговица от маминой кофты. А в печи две булки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теплого хлеба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разрывали немецкие овчарки, а он кричал: «Сына уведите, сына уведите, чтоб не смотрел…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не сразу умерла. Она долго лежала на траве, открыла глаза: «Ира мне надо тебе рассказать…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, я не хочу… - мне казалось, что если она мне скажет то, что хочет, она умрет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не прячьте мою маму в  ямку она проснется, и мы с ней пойдем домой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вытолкнули на улицу, и я бежала за ним по снегу босиком и кричала: «Папочка, папочка». А бабушка причитала дома: «Где же бог, куда он прячется?». Бабушка не смогла пережить такое горе, плакала все тише и тише и через две недели умерла на печке, а рядом спала я и обнимала ее, мертвую. В доме больше никого не осталось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          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С.Алексиевич «Последние свидетели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21760" cy="97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\Desktop\4d733978f33d8494ce5a55a0481.jpg"/>
          <p:cNvPicPr/>
          <p:nvPr/>
        </p:nvPicPr>
        <p:blipFill>
          <a:blip r:embed="rId2"/>
          <a:stretch/>
        </p:blipFill>
        <p:spPr>
          <a:xfrm>
            <a:off x="380880" y="1752480"/>
            <a:ext cx="4114800" cy="3622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\Desktop\помощь.jpg"/>
          <p:cNvPicPr/>
          <p:nvPr/>
        </p:nvPicPr>
        <p:blipFill>
          <a:blip r:embed="rId3"/>
          <a:stretch/>
        </p:blipFill>
        <p:spPr>
          <a:xfrm>
            <a:off x="4648320" y="1752480"/>
            <a:ext cx="4267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075"/>
          <p:cNvPicPr/>
          <p:nvPr/>
        </p:nvPicPr>
        <p:blipFill>
          <a:blip r:embed="rId1"/>
          <a:stretch/>
        </p:blipFill>
        <p:spPr>
          <a:xfrm>
            <a:off x="4495680" y="380880"/>
            <a:ext cx="4343400" cy="315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V_Leningrade"/>
          <p:cNvPicPr/>
          <p:nvPr/>
        </p:nvPicPr>
        <p:blipFill>
          <a:blip r:embed="rId2"/>
          <a:stretch/>
        </p:blipFill>
        <p:spPr>
          <a:xfrm>
            <a:off x="304920" y="3657600"/>
            <a:ext cx="4190760" cy="2962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 тех, что родился в 1923- 1924 гг.и в 1941 году со школьной скамьи шагнул на фронт к концу войны в живых осталось только 3 %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о время Второй мировой войны всего в мире погибло 13 миллионов дет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гибали дети – Граждане мир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1\Desktop\победа.jpg"/>
          <p:cNvPicPr/>
          <p:nvPr/>
        </p:nvPicPr>
        <p:blipFill>
          <a:blip r:embed="rId1"/>
          <a:stretch/>
        </p:blipFill>
        <p:spPr>
          <a:xfrm>
            <a:off x="430200" y="1055520"/>
            <a:ext cx="3429000" cy="28958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120492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8c891"/>
                </a:solidFill>
                <a:latin typeface="Arial"/>
              </a:rPr>
              <a:t>Но помнят они и побед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C:\Users\1\Desktop\победа 2.jpg"/>
          <p:cNvPicPr/>
          <p:nvPr/>
        </p:nvPicPr>
        <p:blipFill>
          <a:blip r:embed="rId2"/>
          <a:stretch/>
        </p:blipFill>
        <p:spPr>
          <a:xfrm>
            <a:off x="5281560" y="1055520"/>
            <a:ext cx="3328920" cy="289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1\Desktop\День победы.jpg"/>
          <p:cNvPicPr/>
          <p:nvPr/>
        </p:nvPicPr>
        <p:blipFill>
          <a:blip r:embed="rId3"/>
          <a:stretch/>
        </p:blipFill>
        <p:spPr>
          <a:xfrm>
            <a:off x="2438280" y="4114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Пусть дети повсюду встречают рассвет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Улыбкой ясной спокойно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Давайте же скажем все вместе –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, нет,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 – грабительским войнам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яркое сол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инее небо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вет в око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колосья хлеба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Мы нарисуем осенние листья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Школу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Руче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Друзей беспокойных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И зачеркнем нашей общей кистью выстрелы, взрывы, огонь и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«</a:t>
            </a: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Ты рожден человеком, но Человеком надо стать. Настоящий человек-это дух человеческий, который выражается в убеждениях и чувствах, воле и стремлениях, в отношении к людям и к самому себе, в способности любить и ненавидеть, видеть в мечте идеал и бороться за него». В.А.Сухомлински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920" y="3581280"/>
            <a:ext cx="4648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началась, мы были еще дети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чилась война, мы уже взрослые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.Коротаева, 14 л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Picture 5" descr="nevinn_10"/>
          <p:cNvPicPr/>
          <p:nvPr/>
        </p:nvPicPr>
        <p:blipFill>
          <a:blip r:embed="rId1"/>
          <a:stretch/>
        </p:blipFill>
        <p:spPr>
          <a:xfrm>
            <a:off x="4800600" y="3332160"/>
            <a:ext cx="3505320" cy="2889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Users\1\Desktop\сухомлинский 2.jpg"/>
          <p:cNvPicPr/>
          <p:nvPr/>
        </p:nvPicPr>
        <p:blipFill>
          <a:blip r:embed="rId2"/>
          <a:stretch/>
        </p:blipFill>
        <p:spPr>
          <a:xfrm>
            <a:off x="55440" y="125280"/>
            <a:ext cx="3907080" cy="2998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4419720" y="8398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На любви к детям держится м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94840" cy="8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54"/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7760" y="304560"/>
            <a:ext cx="5638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Такою все дышало тишин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Что вся земля еще спала, казалос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Кто знал, что между миром и войно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Всего каких-то пять минут осталось.</a:t>
            </a: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С.Щипаче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7" descr="80350cbddde9"/>
          <p:cNvPicPr/>
          <p:nvPr/>
        </p:nvPicPr>
        <p:blipFill>
          <a:blip r:embed="rId1"/>
          <a:srcRect l="6278" t="5145" r="0" b="5524"/>
          <a:stretch/>
        </p:blipFill>
        <p:spPr>
          <a:xfrm>
            <a:off x="685800" y="2286000"/>
            <a:ext cx="518148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1\Desktop\Война.jpg"/>
          <p:cNvPicPr/>
          <p:nvPr/>
        </p:nvPicPr>
        <p:blipFill>
          <a:blip r:embed="rId2"/>
          <a:stretch/>
        </p:blipFill>
        <p:spPr>
          <a:xfrm>
            <a:off x="838080" y="1870200"/>
            <a:ext cx="7620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есть на свете дороже дете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Что есть  самое дорогое  у любого народа? У любой матер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ебенок, прошедший через ужас войны, ребенок л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Кто возвратит ему детств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кто подсчитает, сколько детей убивает войн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таких были тысячи. Что помнят они? Что могут рассказать? Что могли понять, увидеть, запомнить де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1760" cy="962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1\Desktop\дети 323.jpg"/>
          <p:cNvPicPr/>
          <p:nvPr/>
        </p:nvPicPr>
        <p:blipFill>
          <a:blip r:embed="rId2"/>
          <a:stretch/>
        </p:blipFill>
        <p:spPr>
          <a:xfrm>
            <a:off x="15228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1\Desktop\дети война.jpg"/>
          <p:cNvPicPr/>
          <p:nvPr/>
        </p:nvPicPr>
        <p:blipFill>
          <a:blip r:embed="rId3"/>
          <a:stretch/>
        </p:blipFill>
        <p:spPr>
          <a:xfrm>
            <a:off x="5943600" y="1077840"/>
            <a:ext cx="3048120" cy="265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1\Desktop\31108.jpg"/>
          <p:cNvPicPr/>
          <p:nvPr/>
        </p:nvPicPr>
        <p:blipFill>
          <a:blip r:embed="rId4"/>
          <a:stretch/>
        </p:blipFill>
        <p:spPr>
          <a:xfrm>
            <a:off x="3657600" y="1143000"/>
            <a:ext cx="192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1\Desktop\i_181.jpg"/>
          <p:cNvPicPr/>
          <p:nvPr/>
        </p:nvPicPr>
        <p:blipFill>
          <a:blip r:embed="rId5"/>
          <a:stretch/>
        </p:blipFill>
        <p:spPr>
          <a:xfrm>
            <a:off x="331920" y="4064040"/>
            <a:ext cx="3630600" cy="239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Users\1\Desktop\4275994_orig.jpg"/>
          <p:cNvPicPr/>
          <p:nvPr/>
        </p:nvPicPr>
        <p:blipFill>
          <a:blip r:embed="rId6"/>
          <a:stretch/>
        </p:blipFill>
        <p:spPr>
          <a:xfrm>
            <a:off x="5105520" y="4064040"/>
            <a:ext cx="3611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1\Desktop\img28.jpg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fot837"/>
          <p:cNvPicPr/>
          <p:nvPr/>
        </p:nvPicPr>
        <p:blipFill>
          <a:blip r:embed="rId1"/>
          <a:stretch/>
        </p:blipFill>
        <p:spPr>
          <a:xfrm>
            <a:off x="504720" y="2567160"/>
            <a:ext cx="3381480" cy="335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684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 блокадном Ленинграде оставалось 2 млн. 544 тысяч жителей, в том числе 400 тысяч дет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3886200" y="251460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Ленинградские дети», - когда звучали эти слова, у человека сжималось серд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о звучало как пароль – «ленинградские дети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Komp</cp:lastModifiedBy>
  <dcterms:modified xsi:type="dcterms:W3CDTF">2018-09-10T08:48:37Z</dcterms:modified>
  <cp:revision>24</cp:revision>
  <dc:subject/>
  <dc:title>МЕТОДИЧЕСКАЯ РАЗРАБОТКА ВНЕКЛАССНОГО МЕРОПРИЯТИЯ   «Детство, опаленное войной»</dc:title>
</cp:coreProperties>
</file>